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806-A75E-4333-A03C-0890E4B0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487-6821-4325-8837-E3E2B69C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E6B-FAEB-4C6F-9B2A-D2259664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511-67A3-426D-8598-B813C92D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B8B-C1AE-4C5D-AA02-B86D4398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91C-FF8C-46CE-B063-7B4C0CE1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E69-9AFC-47FE-B4B2-F4156519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F54-D8DE-4784-A75B-919A8879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73B-C86C-4018-8DFF-30FD5753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FEC-2A28-4BEF-8329-78FFEBBA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D72-0DA5-4C2D-910C-5E098A6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2BA-F36C-428B-8A88-729CD537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6229-D44F-4FA4-8D70-3040F45B7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3 Viem o domove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ch kr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žiariť bude večn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radosť, pokoj dá nám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všetky slzy zotrie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iem o domove večných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vládne mier a lásky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vať zem tú svojou otčin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je mojou t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ou jedinou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ádherná, zem ľúbe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ová, verným sľúb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stratí moc už smrt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žiariť bude večn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radosť, pokoj dá nám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všetky slzy zotrie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Pán tam pre nás priprav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ešte nikto neza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dosiaľ nám je nezn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pochopíme, pozn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ádherná, zem ľúbe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ová, verným sľúb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stratí moc už smrt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žiariť bude večn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radosť, pokoj dá nám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všetky slzy zotrie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Spasiteľa uzri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naveky s 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 bu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v jeho stálej blí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a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é blaho rozh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ádherná, zem ľúbe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ová, verným sľúb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stratí moc už smrt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58:08Z</dcterms:modified>
  <cp:revision>22</cp:revision>
  <dc:subject/>
  <dc:title>Je veľký náš Pán, on slávy je Kráľ Nech do všetkých strán  spev vrúcnych znie chvál.</dc:title>
</cp:coreProperties>
</file>